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88DFF-B59F-4136-B59E-81582EE2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A5C78-7A66-4FCA-A982-0A730971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01E88-E0FC-4504-A6E4-4788FBEA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B0644-006E-4A04-B9DE-A5919164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9DED8-EF10-47FA-8622-3A03A825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FFDD0-DB86-42BF-9A06-1832B624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81FF6-4291-4097-BB2D-47579782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6D92C-C00E-4BDC-9212-E56B769D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D46AE-6A29-4942-949C-A061DA1E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8D912-1B25-4839-9529-406FB738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E11F9-FC95-48DA-82AE-314E1045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E2A55-B9C8-4618-961A-04D1734E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F156C-2B0C-4700-8967-ABC29976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BFFE6-581B-4032-BDAF-DD3EA21D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11B72-1114-4997-AD42-549236B6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674A4-52E6-4187-B456-BAC688AD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C4BB1-7953-4D6E-A490-0C0F6646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4AD74-8D02-4D72-B5F0-E888F5C5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9360D-0C96-413D-B2BF-7738F160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95F3A-6A79-4A7F-A8F8-FF5B779E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1B0C6-1AF4-4D24-A45E-DA1C51F1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357E-3CDE-4EC2-9735-8F84EDA3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5C3-40F2-49B9-92E2-93493834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527-8F0A-41B8-A613-9336BFE9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E4A-1FDD-4816-8229-65B2BA35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BAAF-EE97-475F-A0D6-A39149E8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4F0-8A87-4835-8005-C2E76990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6A1-BDA9-4F4F-B518-F0F67348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714-2AC7-4F7D-BB08-33003693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0C1-E8CD-45C8-BEEF-1759A087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BEC-BB8A-4804-81C0-1C1D57EA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B43-B026-4266-8C77-36D9A89A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DD6-C93D-423F-94B4-82B0BCAA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0F99-27E1-4CD0-937F-F66ADF6A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195C-7FA8-4BC9-AAF3-D7C366E2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5C80-3718-49B3-A290-626CEE0A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4133-705E-4401-8A5D-F22BCBB6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03B5-B789-4663-AE42-20B1D1C0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3487-EBBF-4B96-A659-F5F1C7F5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2223-83D7-48EB-BBDE-BD605195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7B1F-3408-4668-9C53-53893F3C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A798-2C71-4EC9-82F6-1874984E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8844-3291-4B37-A4C4-5BE8C40F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CAF8-B302-4F13-A462-7891014C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3E50-E44F-4A27-BF36-6D89B1C0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09DDB-2174-4F45-B71F-93220A14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02C03-974D-4BDF-8733-D96D9EE2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4F192-2768-45F5-AD5D-93A05A2B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B375-3A4E-4C76-BF93-04939552F80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8A20-BBB9-44A7-BCC3-66CD40AF421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494E-C3D4-45C8-8479-70162223F21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C4EC-814E-4DA0-96CD-7192CCFEC47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tle 1"/>
          <p:cNvSpPr/>
          <p:nvPr/>
        </p:nvSpPr>
        <p:spPr>
          <a:xfrm>
            <a:off x="-14400" y="1944720"/>
            <a:ext cx="910584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rralling, planting density and N fertilizer rate effect on soil, weed and maize yie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Content Placeholder 2"/>
          <p:cNvSpPr/>
          <p:nvPr/>
        </p:nvSpPr>
        <p:spPr>
          <a:xfrm>
            <a:off x="54000" y="4653000"/>
            <a:ext cx="9090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bdul Rahman Nurudeen, Larbi Asamo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poku Andrews, Francis Marthy Tetteh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eschle-Zeledon Irmg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928000" y="69228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20E9-3AB6-4668-987E-A103AEAF246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itle 1"/>
          <p:cNvSpPr/>
          <p:nvPr/>
        </p:nvSpPr>
        <p:spPr>
          <a:xfrm>
            <a:off x="0" y="6367320"/>
            <a:ext cx="831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2: Manure and soil sampling from SDSG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8628120" y="638172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76B3-814E-4596-9398-A054C355BC7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-12600" y="-7452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"/>
          <p:cNvSpPr/>
          <p:nvPr/>
        </p:nvSpPr>
        <p:spPr>
          <a:xfrm>
            <a:off x="6924600" y="-111240"/>
            <a:ext cx="2237040" cy="640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phe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itle 1"/>
          <p:cNvSpPr/>
          <p:nvPr/>
        </p:nvSpPr>
        <p:spPr>
          <a:xfrm>
            <a:off x="-33480" y="19652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1. Manure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8632800" y="765000"/>
            <a:ext cx="47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2408-0EE9-4ECC-97C1-2EF52E8958F8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"/>
          <p:cNvSpPr/>
          <p:nvPr/>
        </p:nvSpPr>
        <p:spPr>
          <a:xfrm>
            <a:off x="333360" y="10875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and discu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93600" y="2708280"/>
          <a:ext cx="8975880" cy="3897360"/>
        </p:xfrm>
        <a:graphic>
          <a:graphicData uri="http://schemas.openxmlformats.org/drawingml/2006/table">
            <a:tbl>
              <a:tblPr/>
              <a:tblGrid>
                <a:gridCol w="1351080"/>
                <a:gridCol w="1305000"/>
                <a:gridCol w="1014120"/>
                <a:gridCol w="1013040"/>
                <a:gridCol w="1014480"/>
                <a:gridCol w="1209600"/>
                <a:gridCol w="1012680"/>
                <a:gridCol w="281160"/>
                <a:gridCol w="774720"/>
              </a:tblGrid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phe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gn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itle 1"/>
          <p:cNvSpPr/>
          <p:nvPr/>
        </p:nvSpPr>
        <p:spPr>
          <a:xfrm>
            <a:off x="12600" y="2412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2. Soil properties as affected by SDSG in northern Ghana, 2014 and 2015 cropping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8645400" y="324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FEB7-88E9-4FDE-8240-82D9CD78CB2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2600" y="1125360"/>
          <a:ext cx="9097920" cy="5480280"/>
        </p:xfrm>
        <a:graphic>
          <a:graphicData uri="http://schemas.openxmlformats.org/drawingml/2006/table">
            <a:tbl>
              <a:tblPr/>
              <a:tblGrid>
                <a:gridCol w="3097440"/>
                <a:gridCol w="596880"/>
                <a:gridCol w="720720"/>
                <a:gridCol w="720720"/>
                <a:gridCol w="644400"/>
                <a:gridCol w="809640"/>
                <a:gridCol w="1433520"/>
                <a:gridCol w="1074600"/>
              </a:tblGrid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angeable K (cmol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carbo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nitroge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4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angeable K (cmol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carbo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nitroge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itle 1"/>
          <p:cNvSpPr/>
          <p:nvPr/>
        </p:nvSpPr>
        <p:spPr>
          <a:xfrm>
            <a:off x="0" y="1300320"/>
            <a:ext cx="914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Table 7. Weed species count as affected by SDS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8639280" y="8240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D513-E14D-4288-AB3A-B6E523121997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0" y="1874880"/>
          <a:ext cx="9180360" cy="5154480"/>
        </p:xfrm>
        <a:graphic>
          <a:graphicData uri="http://schemas.openxmlformats.org/drawingml/2006/table">
            <a:tbl>
              <a:tblPr/>
              <a:tblGrid>
                <a:gridCol w="1857240"/>
                <a:gridCol w="1017720"/>
                <a:gridCol w="941400"/>
                <a:gridCol w="1042920"/>
                <a:gridCol w="576360"/>
                <a:gridCol w="865080"/>
                <a:gridCol w="1584360"/>
                <a:gridCol w="1295280"/>
              </a:tblGrid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ed species (m-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0.4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 (1.0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itle 1"/>
          <p:cNvSpPr/>
          <p:nvPr/>
        </p:nvSpPr>
        <p:spPr>
          <a:xfrm>
            <a:off x="44280" y="6338880"/>
            <a:ext cx="9099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Table 2. Maize grain yield as affected by SDSG and MP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8602560" y="0"/>
            <a:ext cx="53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38B1-4A2F-42E3-B4D5-2679F6505318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Chart 4"/>
          <p:cNvGraphicFramePr/>
          <p:nvPr/>
        </p:nvGraphicFramePr>
        <p:xfrm>
          <a:off x="-50760" y="-50760"/>
          <a:ext cx="9194760" cy="638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9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itle 1"/>
          <p:cNvSpPr/>
          <p:nvPr/>
        </p:nvSpPr>
        <p:spPr>
          <a:xfrm>
            <a:off x="60480" y="6350040"/>
            <a:ext cx="9083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3. Maize grain yield as affected by SDSG and N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8639280" y="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83C8-4ED0-43BC-911E-C5F5A847065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Chart 4"/>
          <p:cNvGraphicFramePr/>
          <p:nvPr/>
        </p:nvGraphicFramePr>
        <p:xfrm>
          <a:off x="-50760" y="-50760"/>
          <a:ext cx="919476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itle 1"/>
          <p:cNvSpPr/>
          <p:nvPr/>
        </p:nvSpPr>
        <p:spPr>
          <a:xfrm>
            <a:off x="57240" y="1496880"/>
            <a:ext cx="51894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"/>
          <p:cNvSpPr/>
          <p:nvPr/>
        </p:nvSpPr>
        <p:spPr>
          <a:xfrm>
            <a:off x="22320" y="234936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mproved soil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ncreased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MPD interaction increased maize grain yield by about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NFR interaction also increased maize grain yield by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640720" y="79524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B157-AD92-4EEC-A5EF-F7FB17232DD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itle 1"/>
          <p:cNvSpPr/>
          <p:nvPr/>
        </p:nvSpPr>
        <p:spPr>
          <a:xfrm>
            <a:off x="0" y="1197000"/>
            <a:ext cx="446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"/>
          <p:cNvSpPr/>
          <p:nvPr/>
        </p:nvSpPr>
        <p:spPr>
          <a:xfrm>
            <a:off x="141120" y="1803240"/>
            <a:ext cx="88585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Maize-livestock farmers with low resource endowment may also corral sheep and goat 70 or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aize plant density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ow number flock size can corral at 7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high grain yie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arge flock size can also corral at 140 herd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6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033F-3203-4A8F-B572-8FFD6EC47D4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76320" y="3141720"/>
            <a:ext cx="8915400" cy="1295280"/>
          </a:xfrm>
          <a:prstGeom prst="rect">
            <a:avLst/>
          </a:prstGeom>
          <a:ln w="0">
            <a:noFill/>
          </a:ln>
        </p:spPr>
      </p:pic>
      <p:pic>
        <p:nvPicPr>
          <p:cNvPr id="451" name="Content Placeholder 3" descr="E:\Pictures\Knust campus\KNUST EMBLEM.png"/>
          <p:cNvPicPr/>
          <p:nvPr/>
        </p:nvPicPr>
        <p:blipFill>
          <a:blip r:embed="rId2"/>
          <a:stretch/>
        </p:blipFill>
        <p:spPr>
          <a:xfrm>
            <a:off x="4081320" y="4437000"/>
            <a:ext cx="936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tle 1"/>
          <p:cNvSpPr/>
          <p:nvPr/>
        </p:nvSpPr>
        <p:spPr>
          <a:xfrm>
            <a:off x="762120" y="1066680"/>
            <a:ext cx="76960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127080" y="1936800"/>
            <a:ext cx="892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8732880" y="828720"/>
            <a:ext cx="32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4DD3-0AC5-4C0E-A810-AA1A53F012F8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590400" y="34920"/>
            <a:ext cx="822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36000" y="50472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0" y="1077840"/>
            <a:ext cx="914400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farming system in Africa is intensifying across various agro-ecological zon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nginga et al., 200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human and livestock growth is leading to crop-livestock intensification (Powell et al., 2004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le crops grown are mainly cereals (maize, rice, millet and sorghu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reared are mainly ruminants with poultry and lit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-gas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231B-CD82-4F8F-A8A1-6B557165DC6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itle 1"/>
          <p:cNvSpPr/>
          <p:nvPr/>
        </p:nvSpPr>
        <p:spPr>
          <a:xfrm>
            <a:off x="611280" y="8366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0" y="1467000"/>
            <a:ext cx="728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ontent Placeholder 2"/>
          <p:cNvSpPr/>
          <p:nvPr/>
        </p:nvSpPr>
        <p:spPr>
          <a:xfrm>
            <a:off x="1440" y="2114640"/>
            <a:ext cx="91440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p yields on farmers field are low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atic rainf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oil fertility (Bationo et al., 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integration of crop and livestock enterprise (Tarawali et al., 199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agronomic pract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lanting den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8837640" y="770040"/>
            <a:ext cx="28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1B42-DA75-43E8-B809-7050F3D8D4D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itle 1"/>
          <p:cNvSpPr/>
          <p:nvPr/>
        </p:nvSpPr>
        <p:spPr>
          <a:xfrm>
            <a:off x="466560" y="3816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9360" y="371520"/>
            <a:ext cx="3816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9360" y="847800"/>
            <a:ext cx="909972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corralling results in high crop yields (Powell et al., 2004;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u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uah et al., 2009; Abdul Rahman et al., 2015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planting density (Conley et al., 2005; Adeniyan,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recommendation not useful in recent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ing results on effect of plant density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remains unknown on the interaction effect of these three factors on grain yield in crop-livestock system in West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8832960" y="-1440"/>
            <a:ext cx="28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54E3-49EE-4F96-A4F7-388888E48C0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itle 1"/>
          <p:cNvSpPr/>
          <p:nvPr/>
        </p:nvSpPr>
        <p:spPr>
          <a:xfrm>
            <a:off x="2700360" y="0"/>
            <a:ext cx="431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ontent Placeholder 2"/>
          <p:cNvSpPr/>
          <p:nvPr/>
        </p:nvSpPr>
        <p:spPr>
          <a:xfrm>
            <a:off x="46080" y="765000"/>
            <a:ext cx="913140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Obje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d the interaction effect of SDSG, MPD and NFR on yield of maize in a small-scaled crop-livestock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objectiv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effec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soil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effect of SDSG, MPD and NFR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BCAE-9DB7-4D35-B9E4-B1F1B4BB747A}" type="slidenum">
              <a:rPr b="1" lang="en-US" sz="3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468360" y="-2052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E:\UER. jpg"/>
          <p:cNvPicPr/>
          <p:nvPr/>
        </p:nvPicPr>
        <p:blipFill>
          <a:blip r:embed="rId1"/>
          <a:stretch/>
        </p:blipFill>
        <p:spPr>
          <a:xfrm>
            <a:off x="3708360" y="549360"/>
            <a:ext cx="5435640" cy="6308640"/>
          </a:xfrm>
          <a:prstGeom prst="rect">
            <a:avLst/>
          </a:prstGeom>
          <a:ln w="0">
            <a:noFill/>
          </a:ln>
        </p:spPr>
      </p:pic>
      <p:sp>
        <p:nvSpPr>
          <p:cNvPr id="413" name="Content Placeholder 2"/>
          <p:cNvSpPr/>
          <p:nvPr/>
        </p:nvSpPr>
        <p:spPr>
          <a:xfrm>
            <a:off x="0" y="549360"/>
            <a:ext cx="3924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Are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East (Sudan Savann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e:10̊ 30’ 11’’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itude: 0̊ 1’ 30’’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.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a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4.3̊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in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2.3̊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annual Rainfall: 750-1204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urce: Navrongo Meteo. Depar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8871120" y="17640"/>
            <a:ext cx="2664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68F6-1156-42E9-B90F-5DC596DD613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Content Placeholder 2"/>
          <p:cNvSpPr/>
          <p:nvPr/>
        </p:nvSpPr>
        <p:spPr>
          <a:xfrm>
            <a:off x="54000" y="1441440"/>
            <a:ext cx="9070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perimental Desig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it-split plot with 8 re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8908920" y="76500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F9FB-C790-4CA9-B9FA-BC28C933979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4"/>
          <p:cNvSpPr/>
          <p:nvPr/>
        </p:nvSpPr>
        <p:spPr>
          <a:xfrm>
            <a:off x="30240" y="2565360"/>
            <a:ext cx="912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in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ing density of sheep and goat corralling(SDSG) (0, 70, 140 head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lant density (MPD)                                   (66 667, 100 000, 133 333 plant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-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rate (NFR)                                      (0-40-40, 60-40-40, 90-40-40 kg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tle 1"/>
          <p:cNvSpPr/>
          <p:nvPr/>
        </p:nvSpPr>
        <p:spPr>
          <a:xfrm>
            <a:off x="0" y="63817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1: Stocking density of sheep and goat corralling (SDS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8897760" y="638172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569C-6F8F-4DBE-8E2D-E3CA673494F2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-9360" y="-476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Odhong, Jonathan (IITA)</cp:lastModifiedBy>
  <cp:lastPrinted>2015-09-01T11:16:39Z</cp:lastPrinted>
  <dcterms:modified xsi:type="dcterms:W3CDTF">2016-12-14T07:39:46Z</dcterms:modified>
  <cp:revision>979</cp:revision>
  <dc:subject/>
  <dc:title>Diapositiva 1</dc:title>
</cp:coreProperties>
</file>